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88-E5A9-42E5-B395-644F1BF4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810-D7E5-447C-9933-FD94B97F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1742A-BCB6-4A02-9495-220713A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E62F-D12C-4918-A343-D7FC3F04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C836-82BD-472F-AFE1-E9D8058F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62113-4755-4306-8FAB-E44A4F11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DDD51-4FBA-4454-B068-E31C3B7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BB08F-64C7-429B-BAE5-D7131A9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66ADE-0F19-46C3-A26C-8B8FADE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D1F9E-CC66-44A1-B843-177CEC91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D99CF-0170-427D-82F4-5F2636A2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A885A-3F74-470B-9207-96A5C13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65F-F474-4CE7-A941-B76C1C3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66BB3-52EC-4C7B-9AEB-74FEA52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1E6BF-B0B2-4D5F-B941-7671FCA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71EE3-FB98-4004-9946-0247D03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D4CD-0DA4-4B82-BF07-75F4A14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76747-BB19-42D3-8624-03D7A76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2E58-AAF6-4EC3-8114-4025CC2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029B2-878F-473E-9D80-92B8D92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CCA47-206F-4178-8C19-5B9FB93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11D5-B80C-498A-95DC-D2FDDB8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4D1CF-A72C-4105-89FC-9E58B691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76C-8E59-451A-90C0-84D197FB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FEB62-5974-4D05-B94C-92E22265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7C374-BCEB-4BC5-8612-6FDC0E75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0704-BDB4-467D-AF2F-E30E26A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A9D74-D683-46EA-AF69-7D77D61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55DDF-BA21-4DF5-9168-C19EC61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35DC6-1838-49E1-A44A-BFD1367C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29407-D243-4673-8315-1B5E72C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0F091-C090-45DF-9FA5-8E14257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95060-5621-4507-8D04-C3683D2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D780-3654-4968-BAE3-D40193F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4A6-4575-49FB-A064-E314B60A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65CA-9F52-4478-871D-179A232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5A466-1E6D-4D46-A0DB-69BFA5E3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A960-1B01-4B3B-BC60-27C9908B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2B66-F147-46F5-B89E-D44406A7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7E10-71D8-4D45-803D-5D753A68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D32FB-508C-4422-955A-73446DE9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11BF2-8166-47C4-B655-34F24E78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065B4-E12F-4CEF-922F-DC9D7770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19630-D0AD-4DAB-BA34-156FF05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290EF-6542-49DC-8B47-59F3B19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E5D-0886-4552-8157-042F872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BD5DA-C094-4B85-AB8F-E8A1C9A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8066D-1AC7-4A56-83EB-B154993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08FC7-5D4B-4C57-93B5-13A463A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75ED7-8412-4F7A-B138-2A4DE1B0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D559A-3364-459D-B323-352457CE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A26-1570-434A-A97C-201DB566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F00-A65F-42CF-BB9B-CE2F9FEA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435D-0077-44AE-9141-98742D5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895-883B-431C-9043-71EFFC0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39A4-DC65-46B5-88E2-1FBF21C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D92-3E3F-40D5-9A03-90520D3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93A-C020-4E91-857D-E83F68B1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4DE8-1194-414B-9781-A2FF165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8A7A-7068-4D96-A521-0E97254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95E-2190-4AD9-98D7-BB01AE04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8DE-30C3-4D1A-A678-F4C57257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8752-F81B-4F9C-9406-E7495635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200C-DD60-43AD-8D6F-DE0DBA77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AC78-FD67-4078-9683-FEC5F67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89BD-9C10-4383-A571-74A02EDA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B318-6B2E-4942-8850-B2E22661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9C6-BE06-4925-B806-ECA45BF5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6CD2-F8F8-4ACB-88E0-97F2F27E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250B-3ACB-4C22-AF98-BC37C5B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6B2F-1411-4B67-B35F-A0493DB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24A4-F704-46EF-8AB2-94F374C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E993-BEC5-4013-AF6B-B5C8B15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4049-0C32-4DF1-9E3A-7829F849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74CA-C542-45AE-AA42-C3B78566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E778-3FFD-4007-8AB2-5F110C1F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291F-E6C8-4D57-9929-D1D8EB56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30CD-C46C-4F24-A5D6-B54617CC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BA3-1041-4F88-97D3-E4A4F1F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A519-03B8-4E13-BF75-0FB5E401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84BC-5A48-41C3-823C-25DD78B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F988-81C1-433A-804C-9412F68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B964-8942-4E87-8CEB-75398B0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DA72-603C-4581-9F4A-220C071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17DF-E5EA-4ECF-899F-CC79FD1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0B2E-EBF9-4170-B961-7E5D838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13F3-7A19-46A4-AB8E-42CBD487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5708-A01C-493C-BE1D-13DCA134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1382-3A0D-4B4D-89F4-6F9B90F7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DE2-D777-48BF-9D0E-4B3AB00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8876-1E21-413F-9BE1-D4280DB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D4EB-BC92-4792-891B-E415C09E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2DD9-FE23-40BA-882D-6EAD9EFA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A6DB-CB11-4471-9DF0-EA65270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A4DE-778F-4175-860F-8B6596D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F686-C9AA-4AD8-9AED-26EC510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FA2E-D7D9-4B80-AD99-B96C3F7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AA4A-E663-42A3-98C9-B4A5A5D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E31B-0281-4B11-BA2E-05941597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FB55-ACCB-4270-8E86-AE992C68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BD3-66AB-4B30-ABCC-01CA94E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8DF0-0709-4FE1-ABD7-C6BB1C3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8071-6A23-4F6B-99E3-92A574E9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A7A0-C0FF-4319-AAE3-C0D26842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3612-4F84-46F5-936B-8E6276B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F182-C606-41F9-876D-760D2283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EF81-3F2B-4C63-98F7-8657FB34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0DBB-AA30-4C7D-A6D9-DE40A16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0627-4F1E-433E-8A8B-55C8341D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4909-34D8-41F6-A410-66CC0D3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4DC6-C318-402C-BDD7-40BAB6C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76F-88AD-4211-9455-EB21D41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8E710-1570-4857-9FD3-E0731AB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CB5C-9EBC-4DCD-A7B6-4C24D2EF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6C38-70E2-454B-93D1-98858D65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8C83-F8CF-4B45-A919-D3CC8D6D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0F99-1045-4743-A262-0FC900A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75AE7-4F16-4171-BD01-2E84FF1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07EE-ADFE-4574-9AC9-7AAE4D9C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275A-3767-4B39-A7B4-16881A53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C665-6BC9-4CBD-80D8-2CB27E1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BE3D-CB7A-4D33-AB60-7EAF7AA9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6F0-5DB8-4352-B188-AB51977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8A31-654F-4DA7-B804-1451692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5329D-32FE-4212-96C5-5A9EE70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F5D5-4E45-4873-927B-37E4BC7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FF31-1257-4E94-8720-4B16111E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EAA02-3554-4786-B9C0-F4C4D042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0BA6-B0EE-41B6-A624-27F8A6C7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B2C0-5FE3-4896-A812-6861603E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777C-85E3-47AF-926B-B5CE3D17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6ADA2-5B35-4B23-BFCF-02A55445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3D9CB-F460-4738-ADAF-B897D574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21E-BCB3-44C6-AB9C-0DFDE73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DBD5-595D-42E8-AAB8-1961CB2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0831-9D01-489A-AED0-A853909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91D3-15E5-437F-BC8B-D75F387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1EC2-521F-48B8-B0D7-A42700B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CF0E-27C4-41E7-A382-B4DD301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A6ABC-C32E-44C8-AE1D-2DFBAD3A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4C84-E1C5-4A9B-88B6-BA0894B1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06130-ABF9-4C97-8355-46BCF4D8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2172D-D9C7-4041-B04B-4D3CC7D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8E59-0B5A-4826-99AE-9CB80AE1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D5F-28F3-4A23-8016-815A16E1C8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5CB-1718-4981-B2C4-4A24CA0FBC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B3F0-D4B2-4CF1-9306-E6B276C70F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639-534E-4F65-882B-0E25BAD783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413-1669-4844-B1D0-36EF050D43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DE6-0726-4F10-9E95-FDA82B8290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3DB4-AAEE-4759-B90D-B9A73185B8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489-589A-4F22-BB2C-C1BF4BACB9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6ED5-7B1E-4E3C-AD4D-CC46A51790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CFD-537D-4263-9AFE-5126BA1244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021-61A0-4143-991F-06A3D41027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EE6-FAA4-49EE-8FC2-29F102160C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info</cp:lastModifiedBy>
  <dcterms:modified xsi:type="dcterms:W3CDTF">2010-05-24T10:13:44Z</dcterms:modified>
  <cp:revision>26</cp:revision>
  <dc:subject/>
  <dc:title>Какие виды сложных предложений вам известны?</dc:title>
</cp:coreProperties>
</file>